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0426D7B-8B77-4FAB-AB38-A1724BD8C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ractors (glass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ractors (glass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to use and rel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contrast images with no secondary mirror or diagonal obstr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pensive per inch of aper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per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suited for viewing small and faint deep sky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aberration due to colors of light bending different amou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sy to use and reli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 contrast images with no secondary mirror or diagonal obstruc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expensive per inch of apert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 aper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 suited for viewing small and faint deep sky objec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r aberration due to colors of light bending different amou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lectors (mi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ors (mirro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st cost per inch of aper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ably compact and portable up to focal lengths of 1000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ably good for lunar and planet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in optical aber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ag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pertures (over 8") are bulky, heavy and tend to be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est cost per inch of aper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sonably compact and portable up to focal lengths of 1000m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sonably good for lunar and planetary wor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 in optical aberr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frag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 apertures (over 8") are bulky, heavy and tend to be expensiv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ssegrain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ssegrain refl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dioptric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mages over a wide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good for lunar, planetary and binary star observing or photograp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 tube design reduces image degrading air cur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extremely compact and por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adioptric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arp images over a wide fie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y good for lunar, planetary and binary star observing or photograph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 tube design reduces image degrading air curr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are extremely compact and portab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hmidtt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midtt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earth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reflects certain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, gamma rays and most UV light is not transmitted by ou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blurs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nkling” (shimmering)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? Put the telescope in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 with earth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 reflects certain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-rays, gamma rays and most UV light is not transmitted by our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 blurs im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inkling” (shimmering)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pollution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? Put the telescope in sp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imagine.gsfc.nasa.gov/docs/science/know_l1/emspectrum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imagine.gsfc.nasa.gov/docs/science/know_l1/emspectrum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 of space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nsive to launch and mai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to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life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advantages of space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nsive to launch and main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icult to rep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 life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space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imes better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ee fainter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dra X-ray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ton Gamma-Ray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s of space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 Space Telesco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times better re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see fainter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dra X-ray Observa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ton Gamma-Ray Observa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primary parts and functions of each part of a tele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primary parts and functions of each part of a telesco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 Galilei (1564-164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ed by Dutch lens maker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: small 30X 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nted by Dutch lens maker in 16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: small 30X scop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orbiting Jup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of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s on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noti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ons orbiting Jup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s of Ven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aters on the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 noti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 telescope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s light through the objective (mirror or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ger is better because it gathers mor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s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a telescope wo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thers light through the objective (mirror or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gger is better because it gathers more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es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(objective is a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(objective is a mi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dioptr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mirrors and l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midt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sutov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types of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racting (objective is a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ing (objective is a mirro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adioptr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s mirrors and len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midt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sutov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14EF-B0AF-44C3-983E-99561644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A609-F42D-46E6-B607-CAD1A298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91C-31B0-45BC-9EF0-BBB72AFA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5D2A-34BB-4A3E-833E-3F709C69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4806-EEFD-4FD5-B1C6-C4120A50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3D72-3954-4598-8935-51285569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9C92-DF1B-489F-8484-99CB92AC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3754-22EB-42BF-96D0-E0A559F6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2947-7D58-4871-AD92-3DCA62B9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A6C0-FBCE-4BDF-A87C-6C26DC2C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8C51-CD35-4709-A109-8D565596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3FC-B6C2-4DC1-89C5-58965194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F8B3-A1A5-487A-BF07-AB634C58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3656-B47E-40E0-9535-A1ED21CD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F608-671D-4783-A16C-89FE65B9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FE3B-1B09-474E-843B-B7700FFE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E5AB-B398-44D0-8823-B146719E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5719-777B-4376-869C-0DD88AC7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010-0E8B-45BE-BBAC-292CE32C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CE98-F522-4B02-BA80-94F905F3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4FD-D52B-4A35-9A24-C99BADFB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AAD3-C407-404E-9211-A6511A8E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196A-5218-4534-80AD-D3AF7378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F619-8FF0-4878-990E-1F56C654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1" name="Group 3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cce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884D-A27F-490E-9CC6-AFE255DB67FB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-12600" y="1808280"/>
            <a:ext cx="9204120" cy="5106960"/>
            <a:chOff x="-12600" y="1808280"/>
            <a:chExt cx="9204120" cy="5106960"/>
          </a:xfrm>
        </p:grpSpPr>
        <p:grpSp>
          <p:nvGrpSpPr>
            <p:cNvPr id="49" name="Group 3"/>
            <p:cNvGrpSpPr/>
            <p:nvPr/>
          </p:nvGrpSpPr>
          <p:grpSpPr>
            <a:xfrm>
              <a:off x="-12600" y="2927520"/>
              <a:ext cx="9204120" cy="3987720"/>
              <a:chOff x="-12600" y="2927520"/>
              <a:chExt cx="9204120" cy="398772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-12600" y="2927520"/>
                <a:ext cx="9204120" cy="32684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-12600" y="6195960"/>
                <a:ext cx="9204120" cy="7192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838080" y="1808280"/>
              <a:ext cx="8305920" cy="2106360"/>
              <a:chOff x="838080" y="1808280"/>
              <a:chExt cx="8305920" cy="2106360"/>
            </a:xfrm>
          </p:grpSpPr>
          <p:sp>
            <p:nvSpPr>
              <p:cNvPr id="53" name="Freeform 7"/>
              <p:cNvSpPr/>
              <p:nvPr/>
            </p:nvSpPr>
            <p:spPr>
              <a:xfrm>
                <a:off x="838080" y="1808280"/>
                <a:ext cx="8305920" cy="2101680"/>
              </a:xfrm>
              <a:custGeom>
                <a:avLst/>
                <a:gdLst/>
                <a:ahLst/>
                <a:rect l="l" t="t" r="r" b="b"/>
                <a:pathLst>
                  <a:path w="5232" h="1324">
                    <a:moveTo>
                      <a:pt x="4933" y="536"/>
                    </a:moveTo>
                    <a:lnTo>
                      <a:pt x="4809" y="512"/>
                    </a:lnTo>
                    <a:lnTo>
                      <a:pt x="5157" y="452"/>
                    </a:lnTo>
                    <a:lnTo>
                      <a:pt x="4889" y="428"/>
                    </a:lnTo>
                    <a:lnTo>
                      <a:pt x="5052" y="391"/>
                    </a:lnTo>
                    <a:lnTo>
                      <a:pt x="4787" y="373"/>
                    </a:lnTo>
                    <a:lnTo>
                      <a:pt x="5225" y="287"/>
                    </a:lnTo>
                    <a:lnTo>
                      <a:pt x="4925" y="299"/>
                    </a:lnTo>
                    <a:lnTo>
                      <a:pt x="5110" y="240"/>
                    </a:lnTo>
                    <a:lnTo>
                      <a:pt x="4898" y="268"/>
                    </a:lnTo>
                    <a:lnTo>
                      <a:pt x="5231" y="164"/>
                    </a:lnTo>
                    <a:lnTo>
                      <a:pt x="4960" y="203"/>
                    </a:lnTo>
                    <a:lnTo>
                      <a:pt x="5135" y="117"/>
                    </a:lnTo>
                    <a:lnTo>
                      <a:pt x="4965" y="138"/>
                    </a:lnTo>
                    <a:lnTo>
                      <a:pt x="5209" y="39"/>
                    </a:lnTo>
                    <a:lnTo>
                      <a:pt x="4991" y="72"/>
                    </a:lnTo>
                    <a:lnTo>
                      <a:pt x="5124" y="0"/>
                    </a:lnTo>
                    <a:lnTo>
                      <a:pt x="4975" y="25"/>
                    </a:lnTo>
                    <a:lnTo>
                      <a:pt x="4789" y="60"/>
                    </a:lnTo>
                    <a:lnTo>
                      <a:pt x="4532" y="107"/>
                    </a:lnTo>
                    <a:lnTo>
                      <a:pt x="4115" y="189"/>
                    </a:lnTo>
                    <a:lnTo>
                      <a:pt x="3855" y="244"/>
                    </a:lnTo>
                    <a:lnTo>
                      <a:pt x="3591" y="295"/>
                    </a:lnTo>
                    <a:lnTo>
                      <a:pt x="3053" y="409"/>
                    </a:lnTo>
                    <a:lnTo>
                      <a:pt x="2809" y="463"/>
                    </a:lnTo>
                    <a:lnTo>
                      <a:pt x="2644" y="501"/>
                    </a:lnTo>
                    <a:lnTo>
                      <a:pt x="2375" y="559"/>
                    </a:lnTo>
                    <a:lnTo>
                      <a:pt x="2038" y="639"/>
                    </a:lnTo>
                    <a:lnTo>
                      <a:pt x="1614" y="741"/>
                    </a:lnTo>
                    <a:lnTo>
                      <a:pt x="1352" y="808"/>
                    </a:lnTo>
                    <a:lnTo>
                      <a:pt x="909" y="929"/>
                    </a:lnTo>
                    <a:lnTo>
                      <a:pt x="676" y="994"/>
                    </a:lnTo>
                    <a:lnTo>
                      <a:pt x="279" y="1129"/>
                    </a:lnTo>
                    <a:lnTo>
                      <a:pt x="153" y="1182"/>
                    </a:lnTo>
                    <a:lnTo>
                      <a:pt x="82" y="1217"/>
                    </a:lnTo>
                    <a:lnTo>
                      <a:pt x="24" y="1256"/>
                    </a:lnTo>
                    <a:lnTo>
                      <a:pt x="5" y="1277"/>
                    </a:lnTo>
                    <a:lnTo>
                      <a:pt x="0" y="1297"/>
                    </a:lnTo>
                    <a:lnTo>
                      <a:pt x="6" y="1311"/>
                    </a:lnTo>
                    <a:lnTo>
                      <a:pt x="24" y="1323"/>
                    </a:lnTo>
                    <a:lnTo>
                      <a:pt x="57" y="1321"/>
                    </a:lnTo>
                    <a:lnTo>
                      <a:pt x="93" y="1291"/>
                    </a:lnTo>
                    <a:lnTo>
                      <a:pt x="114" y="1272"/>
                    </a:lnTo>
                    <a:lnTo>
                      <a:pt x="146" y="1254"/>
                    </a:lnTo>
                    <a:lnTo>
                      <a:pt x="187" y="1232"/>
                    </a:lnTo>
                    <a:lnTo>
                      <a:pt x="252" y="1211"/>
                    </a:lnTo>
                    <a:lnTo>
                      <a:pt x="308" y="1191"/>
                    </a:lnTo>
                    <a:lnTo>
                      <a:pt x="392" y="1168"/>
                    </a:lnTo>
                    <a:lnTo>
                      <a:pt x="487" y="1142"/>
                    </a:lnTo>
                    <a:lnTo>
                      <a:pt x="615" y="1113"/>
                    </a:lnTo>
                    <a:lnTo>
                      <a:pt x="756" y="1082"/>
                    </a:lnTo>
                    <a:lnTo>
                      <a:pt x="914" y="1050"/>
                    </a:lnTo>
                    <a:lnTo>
                      <a:pt x="1185" y="1003"/>
                    </a:lnTo>
                    <a:lnTo>
                      <a:pt x="1397" y="966"/>
                    </a:lnTo>
                    <a:lnTo>
                      <a:pt x="1838" y="898"/>
                    </a:lnTo>
                    <a:lnTo>
                      <a:pt x="2349" y="827"/>
                    </a:lnTo>
                    <a:lnTo>
                      <a:pt x="2771" y="769"/>
                    </a:lnTo>
                    <a:lnTo>
                      <a:pt x="3188" y="722"/>
                    </a:lnTo>
                    <a:lnTo>
                      <a:pt x="3514" y="683"/>
                    </a:lnTo>
                    <a:lnTo>
                      <a:pt x="3772" y="653"/>
                    </a:lnTo>
                    <a:lnTo>
                      <a:pt x="4056" y="628"/>
                    </a:lnTo>
                    <a:lnTo>
                      <a:pt x="4370" y="594"/>
                    </a:lnTo>
                    <a:lnTo>
                      <a:pt x="4619" y="569"/>
                    </a:lnTo>
                    <a:lnTo>
                      <a:pt x="4933" y="536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843120" y="3446640"/>
                <a:ext cx="1133280" cy="468000"/>
              </a:xfrm>
              <a:custGeom>
                <a:avLst/>
                <a:gdLst/>
                <a:ahLst/>
                <a:rect l="l" t="t" r="r" b="b"/>
                <a:pathLst>
                  <a:path w="714" h="295">
                    <a:moveTo>
                      <a:pt x="0" y="250"/>
                    </a:moveTo>
                    <a:lnTo>
                      <a:pt x="24" y="233"/>
                    </a:lnTo>
                    <a:lnTo>
                      <a:pt x="48" y="211"/>
                    </a:lnTo>
                    <a:lnTo>
                      <a:pt x="73" y="197"/>
                    </a:lnTo>
                    <a:lnTo>
                      <a:pt x="129" y="170"/>
                    </a:lnTo>
                    <a:lnTo>
                      <a:pt x="220" y="129"/>
                    </a:lnTo>
                    <a:lnTo>
                      <a:pt x="391" y="76"/>
                    </a:lnTo>
                    <a:lnTo>
                      <a:pt x="556" y="27"/>
                    </a:lnTo>
                    <a:lnTo>
                      <a:pt x="713" y="0"/>
                    </a:lnTo>
                    <a:lnTo>
                      <a:pt x="569" y="52"/>
                    </a:lnTo>
                    <a:lnTo>
                      <a:pt x="460" y="88"/>
                    </a:lnTo>
                    <a:lnTo>
                      <a:pt x="349" y="129"/>
                    </a:lnTo>
                    <a:lnTo>
                      <a:pt x="252" y="162"/>
                    </a:lnTo>
                    <a:lnTo>
                      <a:pt x="145" y="203"/>
                    </a:lnTo>
                    <a:lnTo>
                      <a:pt x="85" y="245"/>
                    </a:lnTo>
                    <a:lnTo>
                      <a:pt x="65" y="274"/>
                    </a:lnTo>
                    <a:lnTo>
                      <a:pt x="39" y="288"/>
                    </a:lnTo>
                    <a:lnTo>
                      <a:pt x="16" y="294"/>
                    </a:lnTo>
                    <a:lnTo>
                      <a:pt x="6" y="286"/>
                    </a:lnTo>
                    <a:lnTo>
                      <a:pt x="0" y="274"/>
                    </a:lnTo>
                    <a:lnTo>
                      <a:pt x="0" y="25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cce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BA92-626F-4ECD-B868-869BA4DA5002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590840" y="0"/>
            <a:ext cx="60894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share\101\images\dia_refract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Refractors (glass len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and Disadvanta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to use and rel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contrast images with no secondary mirror or diagonal obstru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expensive per inch of aper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aper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 suited for viewing small and faint deep sky obje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r aberration due to colors of light bending different amou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Reflectors (mirror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Picture 3" descr="C:\share\101\images\dia_reflect.jpg"/>
          <p:cNvPicPr/>
          <p:nvPr/>
        </p:nvPicPr>
        <p:blipFill>
          <a:blip r:embed="rId1"/>
          <a:stretch/>
        </p:blipFill>
        <p:spPr>
          <a:xfrm>
            <a:off x="0" y="1077840"/>
            <a:ext cx="9144000" cy="47005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and disadvanta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st cost per inch of aper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ably compact and portable up to focal lengths of 1000m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ably good for lunar and planetary wo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 in optical aberr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frag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apertures (over 8") are bulky, heavy and tend to be expens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ssegrain reflect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6" descr="_x0017_cassegrain-detailed.gif                                        0007E5A8_x000c_Macintosh HD                   B8AA18DE:"/>
          <p:cNvPicPr/>
          <p:nvPr/>
        </p:nvPicPr>
        <p:blipFill>
          <a:blip r:embed="rId1"/>
          <a:stretch/>
        </p:blipFill>
        <p:spPr>
          <a:xfrm>
            <a:off x="1676520" y="2133720"/>
            <a:ext cx="5586120" cy="3122640"/>
          </a:xfrm>
          <a:prstGeom prst="rect">
            <a:avLst/>
          </a:prstGeom>
          <a:ln w="0">
            <a:noFill/>
          </a:ln>
        </p:spPr>
      </p:pic>
      <p:sp>
        <p:nvSpPr>
          <p:cNvPr id="148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tadioptric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p images over a wide fie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good for lunar, planetary and binary star observing or photograph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 tube design reduces image degrading air curr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are extremely compact and por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chmidtt-Cassegr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4" descr="_x0019_s-cassegrain-detailed.gif                                      0007E5A8_x000c_Macintosh HD                   B8AA18DE:"/>
          <p:cNvPicPr/>
          <p:nvPr/>
        </p:nvPicPr>
        <p:blipFill>
          <a:blip r:embed="rId1"/>
          <a:stretch/>
        </p:blipFill>
        <p:spPr>
          <a:xfrm>
            <a:off x="1523880" y="2133720"/>
            <a:ext cx="5853240" cy="323856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blems with earth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’s atmosphere reflects certain waveleng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-rays, gamma rays and most UV light is not transmitted by our atmosp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’s atmosphere blurs im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inkling” (shimmering) eff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pollu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? Put the telescope in sp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534520" cy="5411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96280" y="5867280"/>
            <a:ext cx="86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imagine.gsfc.nasa.gov/docs/science/know_l1/emspectrum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sadvantages of space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nsive to launch and maint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rep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life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8305560" cy="669276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s of space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bble Space Telesc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times better re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see fainter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dra X-ray Observ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ton Gamma-Ray Observ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primary parts and functions of each part of a telescop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share\101\galileo-portrait.jpg"/>
          <p:cNvPicPr/>
          <p:nvPr/>
        </p:nvPicPr>
        <p:blipFill>
          <a:blip r:embed="rId1"/>
          <a:stretch/>
        </p:blipFill>
        <p:spPr>
          <a:xfrm>
            <a:off x="1671480" y="0"/>
            <a:ext cx="57978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1291320" y="6095880"/>
            <a:ext cx="6838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lileo Galilei (1564-164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ed by Dutch lens maker in 16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ileo: small 30X scop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Object 5"/>
          <p:cNvGraphicFramePr/>
          <p:nvPr/>
        </p:nvGraphicFramePr>
        <p:xfrm>
          <a:off x="2190600" y="2133720"/>
          <a:ext cx="47610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0600" y="2133720"/>
                    <a:ext cx="4761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AtHome\phys101\Lectures-F97\images\moon1.jpg"/>
          <p:cNvPicPr/>
          <p:nvPr/>
        </p:nvPicPr>
        <p:blipFill>
          <a:blip r:embed="rId1"/>
          <a:stretch/>
        </p:blipFill>
        <p:spPr>
          <a:xfrm>
            <a:off x="2440080" y="0"/>
            <a:ext cx="42606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ons orbiting Jup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s of Ve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ters on the m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nsp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5410080" y="151920"/>
            <a:ext cx="3733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alileo notic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28600" y="47242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a telescope wor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thers light through the objective (mirror or le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gger is better because it gathers more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s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neral types of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racting (objective is a le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lecting (objective is a mirr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adiop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s mirrors and le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midt-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sutov-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LEGION</dc:creator>
  <dc:description/>
  <dc:language>en-US</dc:language>
  <cp:lastModifiedBy>LEGION</cp:lastModifiedBy>
  <cp:lastPrinted>1998-08-31T16:49:54Z</cp:lastPrinted>
  <dcterms:modified xsi:type="dcterms:W3CDTF">2018-03-22T10:31:29Z</dcterms:modified>
  <cp:revision>216</cp:revision>
  <dc:subject/>
  <dc:title>PowerPoint Presentation  -  No Slide Title</dc:title>
</cp:coreProperties>
</file>